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133-3479-4C78-BD60-0066E153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FC8-623C-4A26-8D71-EEA67D1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82A-F5AD-4891-A436-C4D17339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84-B01D-4FCF-A0D5-EB0ED6C3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41E-F03D-4184-8D48-0718E764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6F6-DE1E-463B-B13D-6B2801D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8FF-D956-44BD-AFFB-7ED3417E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885-C448-45EF-B134-36AFC5B5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938-D9BE-47FA-B0FE-E62CE6C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FB8-34B4-4BE0-BC5D-9DE13709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194-76C9-4D1A-AA4A-9D8F7645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D34-F65F-4E7D-BF10-07232DAA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6D15-D87D-49FF-85C5-D4D3C74F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197000"/>
            <a:ext cx="84582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1 and 2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Refer to the help sheets you have been issu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5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scribe the methods you used to identify your performance strengths and weakness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205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lain why these tests were appropriate (4)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17T17:03:53Z</dcterms:modified>
  <cp:revision>21</cp:revision>
  <dc:subject/>
  <dc:title>Intermediate PE</dc:title>
</cp:coreProperties>
</file>